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D1DA-7AA6-4AF8-ABD6-D7CAF4ACD17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158C-7E08-4A49-BC28-0F2202473A3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6459-757A-49AA-8C6D-755AB696AEA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B4C3-7D2C-454E-8E02-E54A1218B6C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C1C4-4365-4741-934D-1E30499DBE5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F5DD-B229-464E-9909-B803574D300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410C-FFBD-48E7-A764-FAAF98B7280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5C7F-7959-4B87-8746-1B8D975AED6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BCE2-5188-4214-B63F-420ED4F7295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F784-2572-460F-B4C8-BBF57A476F6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5707-E3F5-448F-BAF9-52CE9FE966F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8CF0-FF20-4D25-BBED-1DF6390DDF2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2DE1-9643-4373-BC6E-1FC28F0D0C9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699C-E2B1-458F-B9A0-FE24120A55B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7786-F342-465C-9876-FA3D2A46C73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059B-0876-4B18-9270-D75CC2E2E8A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8816-0D9F-45A6-B820-6D36DB00703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E00D-EAFC-4490-B99A-ECCFE8B9FB7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B483-E56A-4E0F-A936-82149F2C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BFA-CAF6-4897-A1F6-CBBEDDB5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DCF-3535-4EA5-AF71-14DECD4D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CE7-6D93-4B30-8870-D22AFEEB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5CD-251E-4F6E-B767-FB4E7192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2D5-A26E-4866-A187-E7D79D48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311-0DFD-445F-A55B-7FFA5508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9FD-72F0-4969-BC26-C8588E53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FD7-A57F-42A6-9FE7-79FB8DFD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9DB-B541-4E2C-8E9E-C9676707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F27-9B5F-456F-8AEF-1BF38C7E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E88-2F66-46E8-A8E8-2106E9A0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79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3A0E-6052-4AD3-9866-9B7F956CC3A0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pa.gov/tri/index.htm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Polychlorinated_biphenyl_structure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а недеља наставе,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09 ТОКСИКОЛОГИЈА – КЛИНИЧКИ, ЕКОЛОШКИ И ЕКСПЕРИМЕНТАЛНИ АСП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ф. Слободан Јанк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асови који стварају киселине или ба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ко растворљиви у 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дроген-хлорид гас се у контакту са горњим дисајним путевима претвара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дроген-флуорид гас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се користи у производњи бензина, стакла, полупроводника и у грађевинарству. У дисајним путевима се претвара у флуороводоничну киселину која надражује горње дисајне путеве, али делује и системски, на миокард (проаритмогено). Пацијенту треба преко небулизатора дати 2.5% калцијум-глуконат, како би се смањила апсорпција јона флу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асови који стварају киселине или ба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ко растворљиви у 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мпор-диоксид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се јавља као нуспроизвод при преради нафте и топљењу руда. Има јако непријатан мирис – смра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контакту са водом ствара сумпорасту киселину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 изазива дозно-завистан бронхоспа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асови који стварају киселине или ба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редње растворљиви у 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лор гас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l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се широко користи, чак и као бојни отров. Мешањем киселине и базе (избељивача) у домаћинству настаје гас хлор, који може отровати особу која то 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лор се ослобађа и из “бајатих” таблета за хлорисање базен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a(OCl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ли трихлоро-с-триазинтри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лор изазива благо оштећење горњих дисајних путева, да би затим после пар сати латенце наступило гушење због оштећења плу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лор у дисајним путевима ствар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C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асови који стварају киселине или ба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редње растворљиви у 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оник дисулфид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се најчешће јавља при обради смећа, природног гаса, асфалта, петролеја, синтеске гуме, најлона и ретко приликом чишћења одвода у болници запушених гипсом са кисел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хибира цитохроме слично цијани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рди на покварена јаја, али се мирисни рецептори брзо адаптирају, па се особа не склони на в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асови који стварају киселине или ба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або растворљиви гас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зген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се користио као бојни отров, и у синтези органских једињења (нпр. изоцијана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 пријатан мирис свежег сена, па га жртва удише дуб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штећује плућа, после латентног пери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сови који делују оксидан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овек толерише удисање чистог кисеоника 100% до 48х, после чега долази до оштећења плућа и ексуд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азот диоксид се ствара приликом чишћења клизалишта са машинама које раде на пропан, као и приликом силазе. Овај и други оксиди азота стварају пероксинитрит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NOO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, који оштећује пнеумоците. Оштећење плућа настаје после латентног пери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зон (О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настаје дејством УВ светла на кисеоник. Ствара се приликом електричних пражњења и при раду фотокопира и ласерских стампача. Реагује са незасићеним масним киселинама и аминокиселинама које имају сумпор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стали надражљив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цијан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=C=O): metilizocijanat, toluen diizocijanat i difenil-metan diizocijanat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користе у индустрији полим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Бопал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etilizocijanat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исцурео из фабрике и уби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људи, а отров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.000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азвао је оштећење плу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зава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loroacetofenon i hlorobenzilidenmalonilnitril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е удахбе у већој дози може изазвати ларингоспазам и оштећење плу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то је напуштен, и уместо њега се кори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ORESIN CAPSICUM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 папр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е мета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Zn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dO, Ni(CO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ђе оштећују пл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чење тровања надражљивц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исео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онходилатато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кција дисајних пут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тикостероиди системс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 вентилација са позитивним притиском на крају експиријума, али и са мањим тидал-волуменом (6 мл/кг) и плато-притиском од 30 цм во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 тровања хлором вреди дати преко небулизатора 2% натријум-бикарбон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рапулмонална примена перфлуороугљеника, који имају мали пов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ски напон и одлицно растварају кисеоник. Они добро испирају дисајне путеве и имају антиинфламаторно деј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органска пра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естице мање од 10 микрометара, одговарајућег аеродинамичног облика, продиру до алве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илико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инхалација кристала силике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, тј. кварца. Јавља се код претварања камена у прах. Изузетно велико излагање у кратком времену може дати симптоме и знаке силикозе већ после неколико недеља: диспнеја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r pulmonal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рестриктивни синдром плућ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ика комбинована са другим минералима се зове силикат; најважније форме су азбест и талк 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Mg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OH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ска пра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синоза (byssinosis) је инхалација влакана памука. Три до четири сата од излагања настају: стезање у грудима, диспнеја, повишена температура. Сама се повла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сензитивни пнеумон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 се код излагања многим органским прашин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унолошка реакција 4.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-8х после излагања настају температура, грозница, диспнеја; на РДГ-у се виде дифузни или дискретни инфилтрати. Временом настаје фиб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пр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agassosi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код рада са сећерном трском) и “фармерска плућа” (код рада са сеном) настају због инхалације актиномиц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у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љив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8х рада човек удахне око 3000л ва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гушљивци истискују О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з ваздуха, па његова фракција у ваздуху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i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опада испод 21%, а тиме и парцијални притисак кисеоника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a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ушење се типично дешава у затвореном простору, или на отвореном у присуству екстремно високих концентрација загушљивог гаса (нпр. када течни гас нагло прелази у гасовито стање приликом смањења притиска или пораста т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озница металних или полимерских испаре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е при удисању пара металних оксида код галванизације, топљења руда и слично, или код удисања дима при сагоревању флуорисаних полимера (нпр. тефло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чи на дејство надражљиваца, али поред тога постоји повишена температура (38 – 39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, главобоља, метални укус, миал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и се аналгетицима и антипирет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исање гасова и пресине може довести и до настанка праве астме или синдрома сличног астми (реактивни синдром дисфункције дисајних путева). У оба случаја терапија је иста – кортикостеро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Уранију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68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ранијум, 92. елемент у периодном систему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ма 15 изотопа, са масом од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27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40.   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ва од њи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235U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38U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у прасупстанце универзума са полуживотом о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9x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елативни одно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35U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38U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2%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99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7%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35U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је нестабилан, и може ући у процес фис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Фис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5U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е цепа на две велике честице сличне величине, уз емисију неутрона и алфа чест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некада с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5U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цепа на три или више фрагмената, са великом енергијом. Ови нуклеуси емитују неутроне, бета честице икс- и гама- зрач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емијска особина уран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8760" y="2928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анијум је снажно редуктивно средство, које реагује са већином немета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Уранијум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у крв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ранијум се везује за многе молекуле у крви, а посебно за бикарбонатни јон, који повећава растворљивост уранијума у серуму.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 крви, комплекс уранијум-бикарбонат успоставља равнотежу са уранијумом везаним за протеине плазме, тако да је 60% везано за бикарбонате, а 40% за протеин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 другим студијама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4%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ранијума у крви је било везано за бикарбонате и друге јоне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2%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протеине, 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0%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црвена крвна зрнц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акупљање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у организ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анијум се накупља у костима и бубрез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костима се дуго задрж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ако спречити штетно дејство уранијум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итиван ефекат код тровања уранијумом имају бикарбонати и калцијум-ЕДТА, јер везују за себе уранијумов јон и спречавају улазак у ћел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штећење бубрега уранију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штећење бубрега је ограничено на терминалну трећину проксималног туб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вљају се гликозурија, хематурија, албуминурија, некроза тубула са појавом хијалиних и грануларних цилинд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стала оштећења уранијум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честалија малигна обољења, учестале мут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честалија системска обољења везивног тк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мозомске аберације у сперматогон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рцином плућа код изложених дуготрајном удисању уранијумске праш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утеви уласка уранијума у организам чов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и главна пу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астроинтестина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жа и ра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халациј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наци и симптоми хипокс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i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– 16 – 12% - тахипнеја, тахикадија, смањена пажња, еуфорија, главобоља, блага инкоордин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i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– 14 – 10% - поремећено расуђивање, инкоординација, замор, ција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i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– 10 – 6% - мука, повраћање, летаргија, глад за ваздухом, к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i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– &lt; 6% - дисање попут “рибе на сувом”, конвулзије, кома, см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сиромашени ураниј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иромашени уранијум је природни уранијум код кога је садржај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5U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отопа смањ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%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стаје као нус-производ у току процеса обогаћивања уранију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и се за пројектиле, због велике густ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9g/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, што обезбеђује велику продор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езултати студ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суство осиромашеног уранијума је било доказано у 5 узора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хов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ховина и лиш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узетих из близине војних барака у Хан Пијеск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орц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9, A10, A11, A16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1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осталим узорцима није било осиромашеног ураниј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значи да осиромашени уранијум није стигао далеко од бомбардованих циљ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42920" y="249120"/>
          <a:ext cx="8215200" cy="6465960"/>
        </p:xfrm>
        <a:graphic>
          <a:graphicData uri="http://schemas.openxmlformats.org/drawingml/2006/table">
            <a:tbl>
              <a:tblPr/>
              <a:tblGrid>
                <a:gridCol w="8215200"/>
              </a:tblGrid>
              <a:tr h="1998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,4-Trichlorobenzene (PDF) (2 pp, 9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,4,5-Tetrachlorobenzene (PDF) (2 pp, 9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,5-Trichlorophenol (PDF) (2 pp, 8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Bromophenyl phenyl ether (PDF) (2 pp, 6x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naphthene (PDF) (2 pp, 11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naphthylene (PDF) (2 pp, 10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cene (PDF) (2 pp, 11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zo(g,h,i)perylene (PDF) (2 pp, 11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benzofuran (PDF) (2 pp, 8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oxins/Furans (PDF) (2 pp, 10K) (considered one chemical on this li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32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sulfan, alpha (PDF) (2 pp, 11K) &amp; Endosulfan, beta (PDF) (2 pp, 10K) (considered one chemical on this li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rene (PDF) (2 pp, 12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0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tachlor (PDF) (2 pp, 11K) &amp; Heptachlor epoxide (PDF) (2x pp, 11K) (considered one chemical on this list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chlorobenzene (PDF) (2 pp, 10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chlorobutadiene (PDF) (2 pp, 9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chlorocyclohexane, gamma- (PDF) (Lindane) (2 pp, 11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chloroethane (PDF) (2 pp, 10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chlor (PDF) (2x pp, 10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hthalene (PDF) (2 pp, 10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methalin (PDF) (2 pp, 9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chlorobenzene (PDF) (2 pp, 9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chloronitrobenzene (PDF) (Quintozene) (2 pp, 9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chlorophenol (PDF) (2 pp, 10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anthrene (PDF) (2 pp, 10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88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cyclic Aromatic Compounds (PACs) / PAH Group (PDF) (2 pp, 12K) (as defined in </a:t>
                      </a: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TRI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chlorinated Biphenyls (PCBs) (PDF) (4 pp, 105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ene (PDF) (2 pp, 10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fluralin (PDF) (2 pp, 9K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миј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ов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16560" rIns="1656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6560" marR="16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Box 5"/>
          <p:cNvSpPr/>
          <p:nvPr/>
        </p:nvSpPr>
        <p:spPr>
          <a:xfrm>
            <a:off x="3500280" y="285840"/>
            <a:ext cx="5521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31 приоритетан от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иоакумулати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ерзистен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тро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лихлорисани бифен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је група сродних синтетских хлорираних једи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е се у кондензаторима и трансформаторима, у хидрауличним течностима, флуоресцентним бојама, успоривачима горења, мастилу, лепку, папиру за копирање без угљеника, бојама, пластичним масама, изолаторима жица и имерзионим уљима за микроск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орм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upload.wikimedia.org/wikipedia/commons/thumb/4/49/Polychlorinated_biphenyl_structure.svg/300px-Polychlorinated_biphenyl_structure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200" y="1714680"/>
            <a:ext cx="7302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Зашто су тако много коришћен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емијски стаби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сока тачка кључ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шко се п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нашају се као електро-изола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рој хлорисаних бифен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упно 209 једињења, зависно од броја и позиције атома хл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изводили су се од 1929. до 1979., када им је даља производња забрањ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а једињења су у течном стању, а нека у чврстом, налик на тамно обојен во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етање полихлорисаних бифенила у прир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00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ом производње и употребе, пре забране, доспевали су у прир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нас потичу из илегалних депонија отровних материја и из оштећених трансформатора електричне струје (код нас за време бомбардовања 1999), а настају и током спаљивања отпада у инцинератор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природи остају стабилни дуго времена, и крећу се између воде, тла и ва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нађени су у снегу и морској води далеко од места на којима су испуштени у природу; зато их има у свим деловима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 да се акумулирају у листовима и надземним деловима биљ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мулирају се у телима малих организама и ри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организам човека доспевају ингестијом меса риба које садржи полихлорисане бифен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оксич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јава хлор-акни на кожи (зачепљење лојних жлезда) и жутице због оштећења јет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нцерогеност је секундарна последица других ефе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пресија ендокриног и имунолошког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осетљивија су деца у периоду новорођенч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анцероге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4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азана је на животињ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 људи повећавају учесталост тумора јетре и малигног мелан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ертни гасови и угљоводони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инертни гасови могу изазвати загушење при декомпресији, али и смрза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сенон осим тога има и анестетс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ан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се јавља у рупама где трули органска материја (“мочварни гас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 мирис, па му се додаје мала концентрација етил-меркапт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једно са етаном се налази у природном га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пан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и бутан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се користе у компримованој, течној форми као горива и раствара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ан, етан, пропан и бутан су загушљивци, без других ефе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фекти на имуни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 мајмуна, смањују величину тимуса, повећавају осетљивост на Епштајн – Баров вирус, чешће се јављају пнеумоније и вирусне 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 људи, смањују отпорност на инфекцију Епштајн-Баровим вирусом, па је повећана учесталост не-Хоџкинових лимф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фекти на ендокрини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метају функционисање ендокриних жлезда, посебно штитасте и полних жле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мете се механизми регулације и метаболизма тироидних хорм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оследице дуготрајног уношења полихлорисаних бифен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области Великих језера у Америци, дуготрајно конзумирање контаминиране рибе је удружено 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нижењем тироидних хорм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њењем средње телесне тежине деце на рођ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ећањем броја мушке де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Неуролошки ефек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ца изложена полихлорисаним бифенилима имају дефицит у когнитивном развоју, активности и мемор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руги ефек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257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раст холестерола и триглицер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7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аксимална дозвољена концентр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00040" y="25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6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лор-дифенил оксид –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ff0000"/>
              </a:buClr>
              <a:buSzPct val="126000"/>
              <a:buFont typeface="MS Mincho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лордифенил – 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гљен – диоксид (C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ви лед је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мрзнут на -78.5</a:t>
            </a:r>
            <a:r>
              <a:rPr b="0" lang="sr-CS" sz="32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же доћи до тешког тровања ако суви лед сублимира у затвореном прост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ормално у ваздуху има 0.03%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зот (N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зот делује као загушљивац, када из течне форме испари у затвореном прост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ронилаца који удишу ваздух са 70%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 понекад јави “прскање у дубини” (“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upture of the deep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”), односно азотна наркоза, због које ронилац умире. Механизам није позн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ње тровања загу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љивц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мах изнети особу на чист ва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држати вентил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ти кисео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барични кисеоник је непотребан, јер се успостављање оксигенације нормално врши после неколико уд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др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љивци дисајних пут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дражљивци директно убијају ћелије респираторног епитела, као и пнеумоците 1 и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изазива упалу и ексуда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дражљивци који брзо делују надражују више горње дисајне путеве, јер се рефлексно вентилација смањује и особа бежи из загађене сред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дражљивци који спорије делују продиру до алвеола и изазивају оштећење плућа, после латентног пери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асови који стварају киселине или баз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ко растворљиви у 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монијак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се користи у синтези пластике и експлозива, за чишћење, као вештачко ђубриво и у фризидер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зо се раствара у горњим дисајним путевима, стварајућ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OH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остећује 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лорамини (монохлорамин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дихлорамин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HCl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трихлорамин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Cl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настају када се амонијак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помеша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OC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 када се хлорамини растворе, да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OCl, 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и оштећују горње дисајне путе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2:23:24Z</dcterms:created>
  <dc:creator>Korisnik</dc:creator>
  <dc:description/>
  <dc:language>en-US</dc:language>
  <cp:lastModifiedBy>Slobodan Jankovic</cp:lastModifiedBy>
  <dcterms:modified xsi:type="dcterms:W3CDTF">2013-01-26T19:17:04Z</dcterms:modified>
  <cp:revision>64</cp:revision>
  <dc:subject/>
  <dc:title>Slide 1</dc:title>
</cp:coreProperties>
</file>